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7F601-B3DE-413D-9232-0502E66D8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D0A1C-07DC-4B9F-8EF5-6DF74F9B2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258BE-5FBF-43B7-BF0E-48C1D29C2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61664-BFCE-4D78-9BBA-E02FD63BC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7BC8A-9340-432A-90C5-C3D4ACDA1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610D4-FAFC-497B-8B52-CD5244C00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107FE-CFC4-4142-A3F4-AEBFC19D5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0F871-A333-47FD-82D9-22CB94317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9274B-6D64-4E4A-9DAD-8F0451DB8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69EE9-B653-4AF9-847D-220F5A66B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C98C3-A4AE-4E74-9CC7-FB47092BB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524A5-8BED-4C4F-A772-FB62AAD8EC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DB018-004F-4A7A-8C43-AF20C27D95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Internet_forum" TargetMode="External"/><Relationship Id="rId2" Type="http://schemas.openxmlformats.org/officeDocument/2006/relationships/hyperlink" Target="http://en.wikipedia.org/wiki/Message_board" TargetMode="External"/><Relationship Id="rId3" Type="http://schemas.openxmlformats.org/officeDocument/2006/relationships/hyperlink" Target="http://en.wikipedia.org/wiki/Weblogs" TargetMode="External"/><Relationship Id="rId4" Type="http://schemas.openxmlformats.org/officeDocument/2006/relationships/hyperlink" Target="http://en.wikipedia.org/wiki/Wikis"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work Politic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ek 8</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CT 2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ocial Media is the democratization of information, transforming people from content readers into content publishers. It is the shift from a broadcast mechanism to a many-to-many model, rooted in conversations between authors, people, and peer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Med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Media</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ocial media uses the “wisdom of crowds” to connect information in a collaborative mann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rms: </a:t>
            </a:r>
            <a:r>
              <a:rPr b="0" lang="en-US" sz="2400" spc="-1" strike="noStrike" u="sng">
                <a:solidFill>
                  <a:srgbClr val="009999"/>
                </a:solidFill>
                <a:uFillTx/>
                <a:latin typeface="Arial"/>
                <a:hlinkClick r:id="rId1"/>
              </a:rPr>
              <a:t>Internet forums</a:t>
            </a:r>
            <a:r>
              <a:rPr b="0" i="1" lang="en-US" sz="2400" spc="-1" strike="noStrike">
                <a:solidFill>
                  <a:srgbClr val="000000"/>
                </a:solidFill>
                <a:latin typeface="Arial"/>
              </a:rPr>
              <a:t>, </a:t>
            </a:r>
            <a:r>
              <a:rPr b="0" lang="en-US" sz="2400" spc="-1" strike="noStrike" u="sng">
                <a:solidFill>
                  <a:srgbClr val="009999"/>
                </a:solidFill>
                <a:uFillTx/>
                <a:latin typeface="Arial"/>
                <a:hlinkClick r:id="rId2"/>
              </a:rPr>
              <a:t>message boards</a:t>
            </a:r>
            <a:r>
              <a:rPr b="0" i="1" lang="en-US" sz="2400" spc="-1" strike="noStrike">
                <a:solidFill>
                  <a:srgbClr val="000000"/>
                </a:solidFill>
                <a:latin typeface="Arial"/>
              </a:rPr>
              <a:t>, </a:t>
            </a:r>
            <a:r>
              <a:rPr b="0" lang="en-US" sz="2400" spc="-1" strike="noStrike" u="sng">
                <a:solidFill>
                  <a:srgbClr val="009999"/>
                </a:solidFill>
                <a:uFillTx/>
                <a:latin typeface="Arial"/>
                <a:hlinkClick r:id="rId3"/>
              </a:rPr>
              <a:t>weblogs</a:t>
            </a:r>
            <a:r>
              <a:rPr b="0" i="1" lang="en-US" sz="2400" spc="-1" strike="noStrike">
                <a:solidFill>
                  <a:srgbClr val="000000"/>
                </a:solidFill>
                <a:latin typeface="Arial"/>
              </a:rPr>
              <a:t>, </a:t>
            </a:r>
            <a:r>
              <a:rPr b="0" lang="en-US" sz="2400" spc="-1" strike="noStrike" u="sng">
                <a:solidFill>
                  <a:srgbClr val="009999"/>
                </a:solidFill>
                <a:uFillTx/>
                <a:latin typeface="Arial"/>
                <a:hlinkClick r:id="rId4"/>
              </a:rPr>
              <a:t>wikis</a:t>
            </a:r>
            <a:r>
              <a:rPr b="0" i="1" lang="en-US" sz="2400" spc="-1" strike="noStrike">
                <a:solidFill>
                  <a:srgbClr val="000000"/>
                </a:solidFill>
                <a:latin typeface="Arial"/>
              </a:rPr>
              <a:t>, podcasts, pictures and vide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s of social media applications are Google (reference, social networking), Wikipedia (reference), MySpace (social networking), Facebook(social networking), Last.fm (personal music), YouTube (social networking and video sharing), Second Life (virtual reality), and Flickr (photo sha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 of Social Media</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communit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cast and amplify a particular perspectiv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with product/candidate develop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feedback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cont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peer relationships between candidate, party and vot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ster communication and increase tru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 the Campaign Trail</a:t>
            </a:r>
            <a:endParaRPr b="0" lang="en-US" sz="4400" spc="-1" strike="noStrike">
              <a:solidFill>
                <a:srgbClr val="000000"/>
              </a:solidFill>
              <a:latin typeface="Arial"/>
            </a:endParaRPr>
          </a:p>
        </p:txBody>
      </p:sp>
      <p:pic>
        <p:nvPicPr>
          <p:cNvPr id="66" name="Picture 4" descr="Obama ad screenshot"/>
          <p:cNvPicPr/>
          <p:nvPr/>
        </p:nvPicPr>
        <p:blipFill>
          <a:blip r:embed="rId1"/>
          <a:stretch/>
        </p:blipFill>
        <p:spPr>
          <a:xfrm>
            <a:off x="1873080" y="1906560"/>
            <a:ext cx="5397840" cy="3911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mpaign Fundraising</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er for small donors to play a meaningful role in financing political campaigns on intern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ly, small-donor fundraising was prohibitively expensive, as costs of printing and postage ate up most of the money rai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sing large amounts of money from small donors at minimal cost now possi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 card transaction fees = biggest expens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first time, you have a door into the political process that isn't marked 'big mone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We Should Care?</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w blog is created once every 2 seco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videos are posted to YouTube even more frequent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ians are embracing new forms of social networking – Second Life, Twittr, Flick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 top down message delivery is no longer the only o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mportant Are Blogs?</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tal form of social networking to determine what stakeholders are saying about candidat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ay to develop a network of influencers around a candidate and engage in dialogu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 for story ideas, tracking down rumors and heading off potentially harmful, negative publicity</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Media Campaigns</a:t>
            </a:r>
            <a:endParaRPr b="0" lang="en-US"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fiable data easy to obtain and analyz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ine-tuning decisions can be made and implemented at any ti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like traditional media, the cost of change in a social media campaign is comparatively very low.</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iveness</a:t>
            </a: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to measure blog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looks at offer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o clicks on them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ong do they loo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blogs are talking about a particular candid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all this compare to what competitors are do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ness: “If you can’t measure it, you can’t manage it”</a:t>
            </a:r>
            <a:br>
              <a:rPr sz="2400"/>
            </a:br>
            <a:endParaRPr b="0" lang="en-US" sz="2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edia techniques easy to track in data rich environments on the web and fine-tune on a daily or even hourly bas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iable data: numbers are easy to come by and analyze.  Fine-tuning decisions can be made and implemented at any time.  Unlike traditional media, the cost of change in a social media campaign is comparatively very low</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 to measure blog effectiveness can use server log files, ClickTracks, WebTrends, Technorati, The Conversation Index</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ing effectiveness</a:t>
            </a: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comes: Impact on behavior and relationship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takes: Social capital and social networking measure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s: How many people are paying attention ? </a:t>
            </a:r>
            <a:endParaRPr b="0" lang="en-US" sz="1400" spc="-1" strike="noStrike">
              <a:solidFill>
                <a:srgbClr val="000000"/>
              </a:solidFill>
              <a:latin typeface="Arial"/>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Technologies, New Politic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 logic and technologies of networks giving rise to new forms of political organization and mobil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hat extent are the new forms of social networking effective in the political sp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cations of Network Model</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ultural battles are the power battles of the Information Age. They are primarily fought in and by the media…Power lies in the network of information exchange and symbolic manipulation.. It does not really matter who is in power. There are no more stable power elites.” Castells, 199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Technologies &amp; </a:t>
            </a:r>
            <a:br>
              <a:rPr sz="4000"/>
            </a:br>
            <a:r>
              <a:rPr b="0" lang="en-US" sz="4000" spc="-1" strike="noStrike">
                <a:solidFill>
                  <a:srgbClr val="000000"/>
                </a:solidFill>
                <a:latin typeface="Arial"/>
              </a:rPr>
              <a:t>Democratic Politics</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convenient generalized access to massive volume of relevant inform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er diversity of public interest inf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tical communication between citizens and legislato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horizontal communication among citize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direct forms of participation: online voting, opinion polling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itical Parties &amp; Networks</a:t>
            </a:r>
            <a:endParaRPr b="0" lang="en-US" sz="4400" spc="-1" strike="noStrike">
              <a:solidFill>
                <a:srgbClr val="000000"/>
              </a:solidFill>
              <a:latin typeface="Arial"/>
            </a:endParaRPr>
          </a:p>
        </p:txBody>
      </p:sp>
      <p:sp>
        <p:nvSpPr>
          <p:cNvPr id="84" name="PlaceHolder 2"/>
          <p:cNvSpPr>
            <a:spLocks noGrp="1"/>
          </p:cNvSpPr>
          <p:nvPr>
            <p:ph/>
          </p:nvPr>
        </p:nvSpPr>
        <p:spPr>
          <a:xfrm>
            <a:off x="30492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websites for publications, recruitment, fundraising, mobil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ility of more interactiv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discussio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u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public opinion pol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e for leadership candidat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worked Governance</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ion of select government func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entralization and democratization of govern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y consul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delive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ion of standa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implem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itics: More or Less Inclusive?</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s organized by electronic network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information more binary (Castells) you are either in or you are out of a network; little scope for ambiguit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ure of power is then redefined. The question becomes, who decides who is exclude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is changing nature of communication and networking widen the potential numbers of an elite or close it off to society more than befor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berbalkanization</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yberbalkanization"— political discussions on Net that lead to fragmentation and polarization rather than consensu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gives people access to a large number of news sources, but also lets them pinpoint the ones they agree with and ignore the res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experience of the echo chamber easier to create with a computer than with many of the forms of political interaction that preceded i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ublic media space being fragmented into smaller privatized sphe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lerated Pluralism</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bilization around narrowly defined inter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d Gitlin: fragmentation of the public sphere into ‘private sphericu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cal privatization of public sphere rather than democrat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Cluetrain Manifesto: Internet as a conversation that empowers vo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 Organizing</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University of California professor Barbara Epstein: Internet "allows people who agree with each other to talk to each other and gives them the impression of being part of a much larger network than is necessarily the cas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ersonal nature of communication by computer may actually undermine important human contact that always has been crucial to social and political movements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on political par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om Nation-State to Network</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n communication technologies important in extending  sovereign political authority at a national lev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ized, standardized message dispersed across national territo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receives information on compliance and threats (internal/extern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ping of public opinion in context of growth of liberal democratic citizenship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ess, radio &amp; t.v. broadcasting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balization &amp; Decline of State Sovereignty</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state no longer enjoys exclusive power to prescribe and proscribe within their bor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e of regional, global multi-layered system of govern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transnational corpor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policy making bodies ( IMF, WTO, European Union, Asia Pacific Economic Cooperat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osion of Nation Stat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ization = many new constraints on actions of the nation stat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financial flow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 communic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il dependen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national migrant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dependence and a global division of labour all lessen the power on individual nation states to ac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Lessen power on individual states to 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owing Regional/Ethnic Identitie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s in Europe and America show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8% identify with their nation st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8% cite their regional identit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entralization &amp; regionalization bring power closer to peo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olution in Scotla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que region of Spa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bec separatists in Can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New Informational Environmen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intensive and extensive than old med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information ‘captured’ in multiple spaces created by new communication technolog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mai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 sour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politics is a struggle over information &amp; perception management &amp; control in wide range of media outle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e of New Social Movement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communication technologies give rise to transnational new social move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positional political formations outside of mainstream politic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ritorialized coalitions on local, regional, national, international lev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rights, environmental, women’s mov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s of Digital Network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ap, fast publication of informati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t promoti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enance of links with sympathetic organization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bilization &amp; internal organizati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logue &amp; debat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 forms of direction political action: </a:t>
            </a:r>
            <a:r>
              <a:rPr b="0" lang="en-US" sz="3200" spc="-1" strike="noStrike">
                <a:solidFill>
                  <a:srgbClr val="000000"/>
                </a:solidFill>
                <a:latin typeface="Arial"/>
              </a:rPr>
              <a:t>	</a:t>
            </a:r>
            <a:r>
              <a:rPr b="0" lang="en-US" sz="3200" spc="-1" strike="noStrike">
                <a:solidFill>
                  <a:srgbClr val="000000"/>
                </a:solidFill>
                <a:latin typeface="Arial"/>
              </a:rPr>
              <a:t>mass email campaigns, electronic </a:t>
            </a:r>
            <a:r>
              <a:rPr b="0" lang="en-US" sz="3200" spc="-1" strike="noStrike">
                <a:solidFill>
                  <a:srgbClr val="000000"/>
                </a:solidFill>
                <a:latin typeface="Arial"/>
              </a:rPr>
              <a:t>	</a:t>
            </a:r>
            <a:r>
              <a:rPr b="0" lang="en-US" sz="3200" spc="-1" strike="noStrike">
                <a:solidFill>
                  <a:srgbClr val="000000"/>
                </a:solidFill>
                <a:latin typeface="Arial"/>
              </a:rPr>
              <a:t>petitions, parody sites</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1T03:27:40Z</dcterms:created>
  <dc:creator>Sheridan</dc:creator>
  <dc:description/>
  <dc:language>en-US</dc:language>
  <cp:lastModifiedBy>Sheridan</cp:lastModifiedBy>
  <dcterms:modified xsi:type="dcterms:W3CDTF">2009-03-06T00:32:41Z</dcterms:modified>
  <cp:revision>62</cp:revision>
  <dc:subject/>
  <dc:title>Network Politics</dc:title>
</cp:coreProperties>
</file>